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F0D-9D1E-4A99-ABC3-7220B522B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F2A5-54EF-426B-A91E-42CE662D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18AD-0F11-4692-95C5-4FEC5F5D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F6BE-97A8-4564-8704-1867931C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72F3-26CB-40D4-A411-4C1CCC89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9FF1-711B-4694-850E-8CB09A32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E2BA-15AB-4967-89EA-BDB4CE7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EAFE-FCF2-4CE4-A809-57E6FFF4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2334-6E27-4E59-93CE-1F605B98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56D1-8B74-4E43-8312-11D8602F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4E6-720C-4C05-BF82-95B010C4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075C-A581-4954-A6DF-981D0B8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F395-75A5-4EDA-A5A6-1488E4930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4343400"/>
            <a:ext cx="1600200" cy="16002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4240" y="541008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MailUtl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685800"/>
            <a:ext cx="1143000" cy="5334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360" y="63183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6483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1447920" y="510552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838080"/>
            <a:ext cx="2666880" cy="6858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05320" y="9907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505320" y="1371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76040" y="380880"/>
            <a:ext cx="205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esolver’s name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92240" y="106668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48520" y="1676520"/>
            <a:ext cx="266688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8288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505320" y="22096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32840" y="190512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48520" y="2514600"/>
            <a:ext cx="266688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26668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0481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3480" y="2743200"/>
            <a:ext cx="148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XAMPL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3352680"/>
            <a:ext cx="2666880" cy="685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505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5320" y="38862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07800" y="3581280"/>
            <a:ext cx="200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DSL.EXAMPL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560" y="3809880"/>
            <a:ext cx="29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USER-001.ADSL.EXAMPL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82680" y="746280"/>
            <a:ext cx="210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SER-001.ADSL.EXAM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08480" y="533520"/>
            <a:ext cx="12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Name 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0760" y="1096920"/>
            <a:ext cx="153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’s name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5760" y="1960560"/>
            <a:ext cx="197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EXAMPLE.COM’s name serve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26520" y="2819520"/>
            <a:ext cx="23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DSL.EXAMPLE.COM’s name ser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20080" y="3657600"/>
            <a:ext cx="84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192.168.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82680" y="1584360"/>
            <a:ext cx="210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SER-001.ADSL.EXAM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82680" y="2438280"/>
            <a:ext cx="210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SER-001.ADSL.EXAM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66840" y="3276720"/>
            <a:ext cx="210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SER-001.ADSL.EXAMPL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4495680"/>
            <a:ext cx="990720" cy="7621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160" y="46483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Resol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98040" y="609588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92.168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1981080" y="5105160"/>
            <a:ext cx="15264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53920" y="4419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9040" y="762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9040" y="1143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1360" y="16002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81360" y="198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2438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81360" y="28195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9040" y="3276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59040" y="36576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2160" y="48006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12:24:17Z</dcterms:created>
  <dc:creator>N/A</dc:creator>
  <dc:description/>
  <dc:language>en-US</dc:language>
  <cp:lastModifiedBy>N/A</cp:lastModifiedBy>
  <dcterms:modified xsi:type="dcterms:W3CDTF">2007-04-22T11:35:51Z</dcterms:modified>
  <cp:revision>4</cp:revision>
  <dc:subject/>
  <dc:title>ｽﾗｲﾄﾞ ﾀｲﾄﾙなし</dc:title>
</cp:coreProperties>
</file>