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F9C1-C075-4781-A489-7D5954379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46C7-D173-4530-912D-0B5A7F8D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426-10E6-4D3C-BCC4-C61CFBE6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E6F-A3E7-456D-8DEB-D92D6A202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D51F-8F6A-4FDF-AA46-D2861985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A0F-1D54-4728-B6E4-B677DC68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A97A-B738-447D-8ACE-7F86C3A3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C253-E539-44DB-B27F-04F25178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2E16-A190-4078-A9AF-E2B29897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7F1-7881-4427-81CD-75A8498A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17E-F75C-4C71-93E1-CE6BDCCD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2AB-7D26-407A-B4C6-2D8F0E87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681-6DA3-471A-BAFE-019B24AE5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838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42864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0920" y="2590920"/>
            <a:ext cx="23619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8080" y="2746800"/>
            <a:ext cx="537480" cy="45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47040" y="2835720"/>
            <a:ext cx="73080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Ut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800240" y="990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838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352680" y="3048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2428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723920" y="3048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50000" y="765720"/>
            <a:ext cx="730800" cy="276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Ut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5335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26160" y="22788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34280" y="689400"/>
            <a:ext cx="7340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4120" y="533520"/>
            <a:ext cx="990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53560" y="227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36080" y="2746800"/>
            <a:ext cx="7340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2590920"/>
            <a:ext cx="990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53560" y="22852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65840" y="228528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You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84320" y="13705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60280" y="35042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4648320"/>
            <a:ext cx="23623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5800" y="4880520"/>
            <a:ext cx="537480" cy="45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927320"/>
            <a:ext cx="803160" cy="1006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Ut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2004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4876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457200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83800" y="4728240"/>
            <a:ext cx="7340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572000"/>
            <a:ext cx="9907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01280" y="426636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61280" y="441900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You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0480" y="5490000"/>
            <a:ext cx="7340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5334120"/>
            <a:ext cx="990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351480" y="5028480"/>
            <a:ext cx="150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other mail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93840" y="63997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687960"/>
            <a:ext cx="762120" cy="45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5335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04080" y="22788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You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5488560"/>
            <a:ext cx="762120" cy="45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3341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4000" y="5028480"/>
            <a:ext cx="13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other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05120" y="5562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905120" y="5867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5638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572000" y="5867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02:21:59Z</dcterms:created>
  <dc:creator>Fumio Kawamata</dc:creator>
  <dc:description/>
  <dc:language>en-US</dc:language>
  <cp:lastModifiedBy>N/A</cp:lastModifiedBy>
  <dcterms:modified xsi:type="dcterms:W3CDTF">2007-03-25T01:04:16Z</dcterms:modified>
  <cp:revision>5</cp:revision>
  <dc:subject/>
  <dc:title>ｽﾗｲﾄﾞ ﾀｲﾄﾙなし</dc:title>
</cp:coreProperties>
</file>