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13E-CB68-49F4-B2BA-B7BD96F6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769680"/>
            <a:ext cx="777240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1605600"/>
            <a:ext cx="777240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49FF-C8A8-4315-88F8-533EAD74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769680"/>
            <a:ext cx="379260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769680"/>
            <a:ext cx="379260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1605600"/>
            <a:ext cx="379260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1605600"/>
            <a:ext cx="379260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EED-B5FF-4967-8D81-80EC22DAB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769680"/>
            <a:ext cx="250236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769680"/>
            <a:ext cx="250236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769680"/>
            <a:ext cx="250236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1605600"/>
            <a:ext cx="250236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1605600"/>
            <a:ext cx="250236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1605600"/>
            <a:ext cx="250236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8D14-DC10-496F-A82D-EA0343360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7696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C898-232D-4A10-850E-4D452CDE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7696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797F-C9F4-41ED-9AC4-34272AD6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769680"/>
            <a:ext cx="3792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769680"/>
            <a:ext cx="3792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ADE6-F2D0-4B5F-84DB-002D00A7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BA2-C04B-4180-AD09-741C4572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36160"/>
            <a:ext cx="777240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A359-AB4E-48AF-A0BD-F4F319EB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769680"/>
            <a:ext cx="379260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769680"/>
            <a:ext cx="3792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1605600"/>
            <a:ext cx="379260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6371-7CF9-40A3-9108-C24018E0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769680"/>
            <a:ext cx="3792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769680"/>
            <a:ext cx="379260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1605600"/>
            <a:ext cx="379260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18B2-19EA-4C7C-9285-1C0CA1A8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769680"/>
            <a:ext cx="379260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769680"/>
            <a:ext cx="379260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1605600"/>
            <a:ext cx="7772400" cy="76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E893-F730-409C-887A-9BD46E2F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76968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-1267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4680" indent="-105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22640" indent="-84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591840" indent="-84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761040" indent="-84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761040" indent="-84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761040" indent="-84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2430360"/>
            <a:ext cx="190512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2430360"/>
            <a:ext cx="289584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2430360"/>
            <a:ext cx="1905120" cy="1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F339-0D14-404D-9331-1A7FA1A77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68040" y="533520"/>
            <a:ext cx="6920280" cy="1901160"/>
            <a:chOff x="968040" y="533520"/>
            <a:chExt cx="6920280" cy="1901160"/>
          </a:xfrm>
        </p:grpSpPr>
        <p:sp>
          <p:nvSpPr>
            <p:cNvPr id="42" name=""/>
            <p:cNvSpPr/>
            <p:nvPr/>
          </p:nvSpPr>
          <p:spPr>
            <a:xfrm>
              <a:off x="3093840" y="53352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 Black"/>
                </a:rPr>
                <a:t>19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68040" y="533520"/>
              <a:ext cx="168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 Black"/>
                </a:rPr>
                <a:t>IP add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93400" y="1600560"/>
              <a:ext cx="103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 Black"/>
                </a:rPr>
                <a:t>FQD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823920" y="212760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Arial"/>
                </a:rPr>
                <a:t>Figur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13040" y="533520"/>
              <a:ext cx="26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00240" y="53352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 Black"/>
                </a:rPr>
                <a:t>16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06840" y="533520"/>
              <a:ext cx="26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64520" y="533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07160" y="533520"/>
              <a:ext cx="26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89680" y="533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89520" y="1600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06960" y="1600560"/>
              <a:ext cx="26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38720" y="1600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68760" y="1600560"/>
              <a:ext cx="26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00240" y="160056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 Black"/>
                </a:rPr>
                <a:t>16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25920" y="1600560"/>
              <a:ext cx="26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Black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38320" y="1600560"/>
              <a:ext cx="70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 Black"/>
                </a:rPr>
                <a:t>19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17720" y="1600560"/>
              <a:ext cx="237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 Black"/>
                </a:rPr>
                <a:t>.IN-ADDR.ARP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42" idx="2"/>
              <a:endCxn id="58" idx="0"/>
            </p:cNvCxnSpPr>
            <p:nvPr/>
          </p:nvCxnSpPr>
          <p:spPr>
            <a:xfrm flipH="1" rot="16200000">
              <a:off x="3963600" y="474480"/>
              <a:ext cx="607680" cy="1644840"/>
            </a:xfrm>
            <a:prstGeom prst="bentConnector3">
              <a:avLst>
                <a:gd name="adj1" fmla="val 4997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"/>
            <p:cNvCxnSpPr>
              <a:stCxn id="47" idx="2"/>
              <a:endCxn id="56" idx="0"/>
            </p:cNvCxnSpPr>
            <p:nvPr/>
          </p:nvCxnSpPr>
          <p:spPr>
            <a:xfrm rot="16200000">
              <a:off x="3947760" y="1296720"/>
              <a:ext cx="607680" cy="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49" idx="2"/>
              <a:endCxn id="54" idx="0"/>
            </p:cNvCxnSpPr>
            <p:nvPr/>
          </p:nvCxnSpPr>
          <p:spPr>
            <a:xfrm rot="5400000">
              <a:off x="3924720" y="684000"/>
              <a:ext cx="607680" cy="1226160"/>
            </a:xfrm>
            <a:prstGeom prst="bentConnector3">
              <a:avLst>
                <a:gd name="adj1" fmla="val 4997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1" idx="2"/>
              <a:endCxn id="52" idx="0"/>
            </p:cNvCxnSpPr>
            <p:nvPr/>
          </p:nvCxnSpPr>
          <p:spPr>
            <a:xfrm rot="5400000">
              <a:off x="3962880" y="296640"/>
              <a:ext cx="607680" cy="2000520"/>
            </a:xfrm>
            <a:prstGeom prst="bentConnector3">
              <a:avLst>
                <a:gd name="adj1" fmla="val 4997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0:48:16Z</dcterms:created>
  <dc:creator>N/A</dc:creator>
  <dc:description/>
  <dc:language>en-US</dc:language>
  <cp:lastModifiedBy>N/A</cp:lastModifiedBy>
  <dcterms:modified xsi:type="dcterms:W3CDTF">2007-04-08T14:02:17Z</dcterms:modified>
  <cp:revision>3</cp:revision>
  <dc:subject/>
  <dc:title>ｽﾗｲﾄﾞ ﾀｲﾄﾙなし</dc:title>
</cp:coreProperties>
</file>