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E918-AB6C-4340-9FB2-5E446EDFC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4817-4ADC-4E24-B62B-FFC6726E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C5CF-976B-43B9-A871-5C1388CD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8E66-257E-4EAF-AB01-358A4C84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9D27-3FCF-4D31-9033-7407C93A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F8E0-F4FB-49AB-90E6-0E8D4D17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1C6F-B045-4858-BA68-D4DDF972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433C-158F-4DDE-BC19-0E8ED399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8580-5FB0-4C4C-B4B0-81CC4F28F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0D83-606D-4AD3-9502-0D4FAAE3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1891-521D-4274-9F62-4820EB52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ADCB-FCCB-41E3-B545-23498E50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2814-1184-40E1-BB79-FDB805E19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4343400"/>
            <a:ext cx="1600200" cy="16002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4240" y="541008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ilUtl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685800"/>
            <a:ext cx="1143000" cy="5334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19360" y="63183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46483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447920" y="51055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48520" y="838080"/>
            <a:ext cx="2666880" cy="6858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9907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505320" y="137160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76040" y="380880"/>
            <a:ext cx="205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Resolver’s name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92240" y="106668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1676520"/>
            <a:ext cx="2666880" cy="685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182880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505320" y="220968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33200" y="190512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2514600"/>
            <a:ext cx="2666880" cy="685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66688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05320" y="30481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73840" y="274320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N-ADDR.ARP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48520" y="3352680"/>
            <a:ext cx="2666880" cy="685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35053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505320" y="388620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05800" y="3581280"/>
            <a:ext cx="180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92.IN-ADDR.AR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4191120"/>
            <a:ext cx="2666880" cy="685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434340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505320" y="472428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52360" y="4419720"/>
            <a:ext cx="215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68.192.IN-ADDR.AR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2400" y="3809880"/>
            <a:ext cx="24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.0.168.192.IN-ADDR.AR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041000" y="746280"/>
            <a:ext cx="178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.0.168.192.IN-ADDR.AR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84880" y="5029200"/>
            <a:ext cx="2630520" cy="685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5181480"/>
            <a:ext cx="2779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04960" y="5562720"/>
            <a:ext cx="2779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5320" y="5257800"/>
            <a:ext cx="23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0.168.192.IN-ADDR.ARP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08480" y="53352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ame 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89680" y="1096920"/>
            <a:ext cx="159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RPA’s nam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66120" y="1960560"/>
            <a:ext cx="195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-ADDR.ARPA’s name serv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5760" y="2819520"/>
            <a:ext cx="216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92.IN-ADDR.ARPA’s name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38320" y="3657600"/>
            <a:ext cx="240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68.192.IN-ADDR.ARPA’s name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6440" y="4495680"/>
            <a:ext cx="251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0.168.192.IN-ADDR.ARPA’s name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7320" y="1584360"/>
            <a:ext cx="178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.0.168.192.IN-ADDR.AR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17320" y="2438280"/>
            <a:ext cx="178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.0.168.192.IN-ADDR.AR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17320" y="3276720"/>
            <a:ext cx="178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.0.168.192.IN-ADDR.AR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17320" y="4098960"/>
            <a:ext cx="178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.0.168.192.IN-ADDR.AR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77720" y="4937040"/>
            <a:ext cx="178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.0.168.192.IN-ADDR.AR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59000" y="5334120"/>
            <a:ext cx="210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SER-001.ADSL.EXAMPL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495680"/>
            <a:ext cx="99072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160" y="464832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Resol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120" y="6095880"/>
            <a:ext cx="29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USER-001.ADSL.EXAMPL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1981080" y="5105160"/>
            <a:ext cx="1526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5392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9040" y="762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9040" y="1143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81360" y="1600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81360" y="1981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81360" y="2438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81360" y="2819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9040" y="3276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59040" y="3657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8680" y="41148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30080" y="4419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8680" y="495288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8680" y="53341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2160" y="4800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12:24:17Z</dcterms:created>
  <dc:creator>N/A</dc:creator>
  <dc:description/>
  <dc:language>en-US</dc:language>
  <cp:lastModifiedBy>N/A</cp:lastModifiedBy>
  <dcterms:modified xsi:type="dcterms:W3CDTF">2007-04-22T11:36:13Z</dcterms:modified>
  <cp:revision>4</cp:revision>
  <dc:subject/>
  <dc:title>ｽﾗｲﾄﾞ ﾀｲﾄﾙなし</dc:title>
</cp:coreProperties>
</file>