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35B-657F-4A5D-A5EE-05495C6B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1AD-BEDC-492E-9FE2-F74C318A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94CF-C64A-4CD9-B77B-D8417AC6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9A88-56A1-4A97-8949-0591D24DB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25FF-A394-4F45-B3E5-338453BD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05A1-5398-4CB0-8694-6B642862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CCCA-865E-4269-A00C-05D64B2C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27E-0854-471B-93A8-97A6F5E7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BFF-98FA-4173-93C2-6CC43EDD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4ABF-CE63-4B00-A860-53A94BAF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42C-28E5-4246-ACDC-DAC91F55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094-2CFC-4DBA-A474-E15654F5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388F-2E54-4602-B083-FAB1EBF53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9880" y="7621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>
            <a:off x="3809520" y="914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34280" y="61344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4120" y="457200"/>
            <a:ext cx="9903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91280" y="1515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17480" y="258984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611640"/>
            <a:ext cx="76176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9520" y="4572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11880" y="151560"/>
            <a:ext cx="134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ames’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0960" y="456480"/>
            <a:ext cx="25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P3 serv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mail1.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rt numb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account: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password: *******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17480" y="6323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72800" y="456480"/>
            <a:ext cx="24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st name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mail1.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stening port numb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49480" y="5790600"/>
            <a:ext cx="23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st name: mail2.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stening port number: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0280" y="5637960"/>
            <a:ext cx="180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P3 server: </a:t>
            </a:r>
            <a:r>
              <a:rPr b="1" lang="ja-JP" sz="1200" spc="-1" strike="noStrike">
                <a:solidFill>
                  <a:srgbClr val="009999"/>
                </a:solidFill>
                <a:latin typeface="Arial"/>
                <a:ea typeface="Arial Unicode MS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rt numb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account: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password: *******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0800" y="5790600"/>
            <a:ext cx="200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st name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local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stening port numb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06760" y="4083120"/>
            <a:ext cx="23619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70200" y="4315320"/>
            <a:ext cx="66528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02040" y="4362120"/>
            <a:ext cx="80316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Utl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4290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40120" y="43117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739760" y="4540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51920" y="416304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49960" y="4006800"/>
            <a:ext cx="9903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54640" y="335196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618600" y="492516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16640" y="4768920"/>
            <a:ext cx="990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11120" y="4923360"/>
            <a:ext cx="76212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82520" y="47689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48600" y="449496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mith’s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73240" y="49975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073240" y="53020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740120" y="5073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40120" y="5302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0520" y="3580560"/>
            <a:ext cx="23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st name: mail1.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stening port number: 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7760" y="3199680"/>
            <a:ext cx="278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P3 serv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localhost 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(or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 </a:t>
            </a:r>
            <a:r>
              <a:rPr b="1" lang="ja-JP" sz="1200" spc="-1" strike="noStrike">
                <a:solidFill>
                  <a:srgbClr val="009999"/>
                </a:solidFill>
                <a:latin typeface="Arial"/>
                <a:ea typeface="Arial Unicode MS"/>
              </a:rPr>
              <a:t>diamond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rt numb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account: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password: *******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3720" y="39625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419360" y="548640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26080" y="55620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7080" y="3656880"/>
            <a:ext cx="164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James’s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st name: </a:t>
            </a:r>
            <a:r>
              <a:rPr b="1" lang="ja-JP" sz="1200" spc="-1" strike="noStrike">
                <a:solidFill>
                  <a:srgbClr val="009999"/>
                </a:solidFill>
                <a:latin typeface="Arial"/>
                <a:ea typeface="Arial Unicode MS"/>
              </a:rPr>
              <a:t>dia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19810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809520" y="21337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34280" y="1832400"/>
            <a:ext cx="734040" cy="459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P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4120" y="1676520"/>
            <a:ext cx="990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91280" y="137088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8120" y="1830960"/>
            <a:ext cx="761760" cy="459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lien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16765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04320" y="137088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mith’s comp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960" y="1675800"/>
            <a:ext cx="254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P3 serv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mail2.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Port numb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account: sm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ser password: ********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2800" y="1675800"/>
            <a:ext cx="240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Host name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mail2.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Listening port number: </a:t>
            </a:r>
            <a:r>
              <a:rPr b="1" lang="ja-JP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4T14:20:49Z</dcterms:created>
  <dc:creator>N/A</dc:creator>
  <dc:description/>
  <dc:language>en-US</dc:language>
  <cp:lastModifiedBy>N/A</cp:lastModifiedBy>
  <dcterms:modified xsi:type="dcterms:W3CDTF">2007-03-25T03:21:13Z</dcterms:modified>
  <cp:revision>7</cp:revision>
  <dc:subject/>
  <dc:title>ｽﾗｲﾄﾞ ﾀｲﾄﾙなし</dc:title>
</cp:coreProperties>
</file>