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9CB-A6EB-4B30-B03F-458BFB7B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39C-D590-48DB-BC4C-26FDF077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1CC-A957-4C49-94F0-5B7466A4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1C5-8E19-4467-8153-655421C4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6EF5-DF0A-43C4-9287-2D6FF98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30D-2BF0-4C02-8150-E1FFDA75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E6D-D115-484A-8086-E83E4A0B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6CB-4B81-4274-8A00-1F0033F8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19A7-18C1-47EB-8BCE-A8E11A56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4F8-3723-4F1F-B768-4E0182B5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6FF-7016-4072-8AD0-296CFF67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7BBA-6941-4B39-83CC-D18BD337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D4FE-9845-44B4-9999-B0AED7BD2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6320" y="62485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29200" y="609480"/>
            <a:ext cx="2895480" cy="3812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1828800"/>
            <a:ext cx="2895480" cy="380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7080" y="1828800"/>
            <a:ext cx="762120" cy="380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3048120"/>
            <a:ext cx="2895480" cy="380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3048120"/>
            <a:ext cx="1066680" cy="380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67080" y="3048120"/>
            <a:ext cx="762120" cy="38088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80880" y="2971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571640" y="198108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73480" y="236232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DP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8 oct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65200" y="175248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DP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5400000">
            <a:off x="6019560" y="1752480"/>
            <a:ext cx="152280" cy="3657600"/>
          </a:xfrm>
          <a:custGeom>
            <a:avLst/>
            <a:gdLst>
              <a:gd name="textAreaLeft" fmla="*/ 0 w 152280"/>
              <a:gd name="textAreaRight" fmla="*/ 55080 w 15228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9"/>
                </a:lnTo>
                <a:cubicBezTo>
                  <a:pt x="10800" y="9909"/>
                  <a:pt x="16200" y="10809"/>
                  <a:pt x="21600" y="10809"/>
                </a:cubicBezTo>
                <a:cubicBezTo>
                  <a:pt x="16200" y="10809"/>
                  <a:pt x="10800" y="11709"/>
                  <a:pt x="10800" y="126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37960" y="373392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DP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5400000">
            <a:off x="3657240" y="3048120"/>
            <a:ext cx="152280" cy="1066680"/>
          </a:xfrm>
          <a:custGeom>
            <a:avLst/>
            <a:gdLst>
              <a:gd name="textAreaLeft" fmla="*/ 0 w 152280"/>
              <a:gd name="textAreaRight" fmla="*/ 5508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21960" y="3597120"/>
            <a:ext cx="212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0octets (without op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4495680"/>
            <a:ext cx="2895480" cy="3812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NS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495680"/>
            <a:ext cx="1066680" cy="38124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495680"/>
            <a:ext cx="762120" cy="38124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19720"/>
            <a:ext cx="158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thernet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485680" y="2666880"/>
            <a:ext cx="152640" cy="4724280"/>
          </a:xfrm>
          <a:custGeom>
            <a:avLst/>
            <a:gdLst>
              <a:gd name="textAreaLeft" fmla="*/ 0 w 152640"/>
              <a:gd name="textAreaRight" fmla="*/ 55080 w 152640"/>
              <a:gd name="textAreaTop" fmla="*/ 123120 h 4724280"/>
              <a:gd name="textAreaBottom" fmla="*/ 4601160 h 472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9"/>
                </a:lnTo>
                <a:cubicBezTo>
                  <a:pt x="10800" y="9909"/>
                  <a:pt x="16200" y="10809"/>
                  <a:pt x="21600" y="10809"/>
                </a:cubicBezTo>
                <a:cubicBezTo>
                  <a:pt x="16200" y="10809"/>
                  <a:pt x="10800" y="11709"/>
                  <a:pt x="10800" y="12609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97240" y="510552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2590200" y="4495680"/>
            <a:ext cx="152640" cy="1066680"/>
          </a:xfrm>
          <a:custGeom>
            <a:avLst/>
            <a:gdLst>
              <a:gd name="textAreaLeft" fmla="*/ 0 w 152640"/>
              <a:gd name="textAreaRight" fmla="*/ 5508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49680" y="5105520"/>
            <a:ext cx="166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thenet II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2oct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(8 octets pream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e includ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4495680"/>
            <a:ext cx="1066680" cy="38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24680" y="4495680"/>
            <a:ext cx="685800" cy="38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465320" y="5105520"/>
            <a:ext cx="144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thernet II C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 oct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000">
            <a:off x="8190720" y="46861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3:21:35Z</dcterms:created>
  <dc:creator>N/A</dc:creator>
  <dc:description/>
  <dc:language>en-US</dc:language>
  <cp:lastModifiedBy>N/A</cp:lastModifiedBy>
  <dcterms:modified xsi:type="dcterms:W3CDTF">2007-04-22T12:50:03Z</dcterms:modified>
  <cp:revision>5</cp:revision>
  <dc:subject/>
  <dc:title>ｽﾗｲﾄﾞ ﾀｲﾄﾙなし</dc:title>
</cp:coreProperties>
</file>