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7096125" cy="10231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7411-5271-4F89-9CA6-727CE6998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0953-157A-4625-9CA0-8FB14E78A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5A9F-91A7-4FB0-AAC8-F4F582A76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5223-C6D0-439B-9C84-353F744A2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EB02-F358-4F68-ACDA-5E910F200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BF2F-5356-4278-9303-E99DAD187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8BA7-EA26-484A-B906-2139D6A82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DC5D-7BA1-484C-87DF-A991D13C8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CC8B-0515-4FDC-8E2A-B26C0CF15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212E-5796-468D-899D-8D7FA982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0EF9-BD10-483D-A072-8E31300E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8556-5B69-4662-B7C2-91487692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109CE-6E69-45F2-8ED9-6D9BA91582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304920"/>
            <a:ext cx="2971800" cy="8153280"/>
          </a:xfrm>
          <a:custGeom>
            <a:avLst/>
            <a:gdLst>
              <a:gd name="textAreaLeft" fmla="*/ 25560 w 2971800"/>
              <a:gd name="textAreaRight" fmla="*/ 2946240 w 2971800"/>
              <a:gd name="textAreaTop" fmla="*/ 25560 h 8153280"/>
              <a:gd name="textAreaBottom" fmla="*/ 8127720 h 8153280"/>
            </a:gdLst>
            <a:ahLst/>
            <a:rect l="textAreaLeft" t="textAreaTop" r="textAreaRight" b="textAreaBottom"/>
            <a:pathLst>
              <a:path w="21600" h="59256">
                <a:moveTo>
                  <a:pt x="635" y="0"/>
                </a:moveTo>
                <a:arcTo wR="635" hR="635" stAng="16200000" swAng="-5400000"/>
                <a:lnTo>
                  <a:pt x="0" y="58621"/>
                </a:lnTo>
                <a:arcTo wR="635" hR="635" stAng="10800000" swAng="-5400000"/>
                <a:lnTo>
                  <a:pt x="20965" y="59256"/>
                </a:lnTo>
                <a:arcTo wR="635" hR="635" stAng="5400000" swAng="-5400000"/>
                <a:lnTo>
                  <a:pt x="21600" y="635"/>
                </a:lnTo>
                <a:arcTo wR="635" hR="63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304920"/>
            <a:ext cx="2514600" cy="8153280"/>
          </a:xfrm>
          <a:custGeom>
            <a:avLst/>
            <a:gdLst>
              <a:gd name="textAreaLeft" fmla="*/ 11520 w 2514600"/>
              <a:gd name="textAreaRight" fmla="*/ 2503080 w 2514600"/>
              <a:gd name="textAreaTop" fmla="*/ 11520 h 8153280"/>
              <a:gd name="textAreaBottom" fmla="*/ 8141760 h 8153280"/>
            </a:gdLst>
            <a:ahLst/>
            <a:rect l="textAreaLeft" t="textAreaTop" r="textAreaRight" b="textAreaBottom"/>
            <a:pathLst>
              <a:path w="21600" h="70028">
                <a:moveTo>
                  <a:pt x="344" y="0"/>
                </a:moveTo>
                <a:arcTo wR="344" hR="344" stAng="16200000" swAng="-5400000"/>
                <a:lnTo>
                  <a:pt x="0" y="69684"/>
                </a:lnTo>
                <a:arcTo wR="344" hR="344" stAng="10800000" swAng="-5400000"/>
                <a:lnTo>
                  <a:pt x="21256" y="70028"/>
                </a:lnTo>
                <a:arcTo wR="344" hR="344" stAng="5400000" swAng="-5400000"/>
                <a:lnTo>
                  <a:pt x="21600" y="344"/>
                </a:lnTo>
                <a:arcTo wR="344" hR="344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0" y="914400"/>
            <a:ext cx="0" cy="7315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2680" y="914400"/>
            <a:ext cx="0" cy="7315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0" y="914400"/>
            <a:ext cx="0" cy="7315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3352320" y="1676520"/>
            <a:ext cx="12193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83240" y="45720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MU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43560" y="304920"/>
            <a:ext cx="964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MailUtl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(POP Prox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193280" y="457200"/>
            <a:ext cx="139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POP3 Daem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99240" y="0"/>
            <a:ext cx="15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Local Comp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22000" y="0"/>
            <a:ext cx="262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POP3 Server (Remote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205740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USER hotname#my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2438280"/>
            <a:ext cx="1219320" cy="41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286000" y="2590920"/>
            <a:ext cx="22860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629240" y="2471760"/>
            <a:ext cx="1323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+OK please 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PASS comman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0" y="2895480"/>
            <a:ext cx="22860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8195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PASS ******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286000" y="3124080"/>
            <a:ext cx="22860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3440" y="2981160"/>
            <a:ext cx="1476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+OK your maildr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has 2 message(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0" y="3429000"/>
            <a:ext cx="22860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43000" y="327672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ST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286000" y="3657600"/>
            <a:ext cx="22860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3800" y="3591000"/>
            <a:ext cx="101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+OK 2 3879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0" y="3962520"/>
            <a:ext cx="22860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8098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286000" y="4191120"/>
            <a:ext cx="22860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649760" y="4048200"/>
            <a:ext cx="20095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+OK scan listing follow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1 1968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2 14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0" y="4648320"/>
            <a:ext cx="22860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43000" y="44956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RETR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2286000" y="4876920"/>
            <a:ext cx="22860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3440" y="480996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+OK message follow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286000" y="6324480"/>
            <a:ext cx="22860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2286000" y="6629400"/>
            <a:ext cx="22860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286000" y="6858000"/>
            <a:ext cx="22860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3800" y="6791400"/>
            <a:ext cx="86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CRLF.CRL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86200" y="6400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48320" y="6248520"/>
            <a:ext cx="75960" cy="457200"/>
          </a:xfrm>
          <a:custGeom>
            <a:avLst/>
            <a:gdLst>
              <a:gd name="textAreaLeft" fmla="*/ 0 w 75960"/>
              <a:gd name="textAreaRight" fmla="*/ 27360 w 7596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26080" y="6334200"/>
            <a:ext cx="48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Bod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0" y="7162920"/>
            <a:ext cx="22860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43000" y="70102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DEL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2286000" y="5105520"/>
            <a:ext cx="22860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2286000" y="5410080"/>
            <a:ext cx="22860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86200" y="51814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029200"/>
            <a:ext cx="75960" cy="457200"/>
          </a:xfrm>
          <a:custGeom>
            <a:avLst/>
            <a:gdLst>
              <a:gd name="textAreaLeft" fmla="*/ 0 w 75960"/>
              <a:gd name="textAreaRight" fmla="*/ 27360 w 7596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26080" y="5114880"/>
            <a:ext cx="71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Head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285640" y="6019920"/>
            <a:ext cx="1066680" cy="75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352320" y="5638680"/>
            <a:ext cx="12193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85640" y="6248520"/>
            <a:ext cx="10666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3800" y="5495760"/>
            <a:ext cx="86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CRLF CRL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21469200">
            <a:off x="2516040" y="6105600"/>
            <a:ext cx="48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CRL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286000" y="7391520"/>
            <a:ext cx="22860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3800" y="7324560"/>
            <a:ext cx="193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+OK  Message 1 delet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75438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0" y="7848720"/>
            <a:ext cx="22860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43000" y="769608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QU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3440" y="77817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+OK  Bye bye!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5638680"/>
            <a:ext cx="8380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19320" y="5105520"/>
            <a:ext cx="99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Inserted message by MailUt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48320" y="914400"/>
            <a:ext cx="75960" cy="457200"/>
          </a:xfrm>
          <a:custGeom>
            <a:avLst/>
            <a:gdLst>
              <a:gd name="textAreaLeft" fmla="*/ 0 w 75960"/>
              <a:gd name="textAreaRight" fmla="*/ 27360 w 7596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24280" y="1066680"/>
            <a:ext cx="1981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&lt;wait for conne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on TCP port 110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352680" y="1447920"/>
            <a:ext cx="1219320" cy="4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1066680"/>
            <a:ext cx="1600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&lt;open connection to localhost, port 123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62320" y="228600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USER myn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5840" y="8458200"/>
            <a:ext cx="195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Flow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8869320"/>
            <a:ext cx="472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Copyright (C) 2005-2006 Fumio Kawamata      http://opnelab.jp/fumio/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29000" y="914400"/>
            <a:ext cx="76320" cy="304920"/>
          </a:xfrm>
          <a:custGeom>
            <a:avLst/>
            <a:gdLst>
              <a:gd name="textAreaLeft" fmla="*/ 0 w 76320"/>
              <a:gd name="textAreaRight" fmla="*/ 27360 w 7632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0" y="1295280"/>
            <a:ext cx="1066680" cy="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29000" y="76212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&lt;wait for conne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on port 123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285640" y="182880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3800" y="1523880"/>
            <a:ext cx="40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Courier New"/>
              </a:rPr>
              <a:t>+O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0" y="2209680"/>
            <a:ext cx="1066680" cy="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8T13:49:32Z</dcterms:created>
  <dc:creator>Fumio Kawamata</dc:creator>
  <dc:description/>
  <dc:language>en-US</dc:language>
  <cp:lastModifiedBy>N/A</cp:lastModifiedBy>
  <cp:lastPrinted>2005-11-19T00:47:14Z</cp:lastPrinted>
  <dcterms:modified xsi:type="dcterms:W3CDTF">2007-03-24T10:10:57Z</dcterms:modified>
  <cp:revision>7</cp:revision>
  <dc:subject/>
  <dc:title>ｽﾗｲﾄﾞ ﾀｲﾄﾙなし</dc:title>
</cp:coreProperties>
</file>